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008749"/>
        <c:axId val="45374865"/>
      </c:barChart>
      <c:catAx>
        <c:axId val="640087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374865"/>
        <c:crosses val="autoZero"/>
        <c:auto val="1"/>
        <c:lblAlgn val="ctr"/>
        <c:lblOffset val="100"/>
        <c:noMultiLvlLbl val="0"/>
      </c:catAx>
      <c:valAx>
        <c:axId val="453748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0087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1B42-1FF9-4725-965E-086959CC2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37A2-4868-4FD2-913D-B27E8220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E8C5-FD3C-4AC1-B6C1-5B2437C27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1CE3-F203-4112-9853-6CE560B86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94AE-4B21-42F7-8F94-998634E0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AD65-CB90-4ACC-9995-7A8C2B45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A687-FC14-48ED-A235-48D1E0D2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84D6-145D-4BEE-A7E8-901A7028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C4AA-C6C6-4782-A931-6624E15F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D6EA-727A-4013-940E-ED1FF391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C891-08E1-4BB5-8BB0-E28DA176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2470-C6A2-405C-B971-1081B765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D23AD3-B023-45EF-949D-73D7653032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