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889221"/>
        <c:axId val="53107069"/>
      </c:barChart>
      <c:catAx>
        <c:axId val="988892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107069"/>
        <c:crosses val="autoZero"/>
        <c:auto val="1"/>
        <c:lblAlgn val="ctr"/>
        <c:lblOffset val="100"/>
        <c:noMultiLvlLbl val="0"/>
      </c:catAx>
      <c:valAx>
        <c:axId val="531070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8892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8B52-F87A-4EC6-80F2-35D82D377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F332-FEF7-47F2-86A8-E9915E03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F851-E82B-45B6-8B85-CBB42356E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5963-F57A-4D1B-AC71-71A4780CA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8C87-44EA-4B77-B8D5-CFBF3E5B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B4CE-0CC0-493C-8803-E6E279D8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C95B-1BAE-4C3F-B137-DE955C43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7F01-1466-43A6-A7EB-0F30E708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3E3F-437C-42C5-A883-6A478AD1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FEAF-BC4A-4529-8903-3938B098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903E-A7C9-45F4-847D-84DCD3F3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195B-3BF2-4FC7-A6D4-07B3217C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19CFC5-AAA0-49E5-926E-225AA57AB3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