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01999"/>
        <c:axId val="38131088"/>
      </c:barChart>
      <c:catAx>
        <c:axId val="70801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31088"/>
        <c:crosses val="autoZero"/>
        <c:auto val="1"/>
        <c:lblAlgn val="ctr"/>
        <c:lblOffset val="100"/>
        <c:noMultiLvlLbl val="0"/>
      </c:catAx>
      <c:valAx>
        <c:axId val="38131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01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29B-2DBB-4062-BE6E-ABFC0FB2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615-0999-4ACB-9247-38BC76E6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27F-AB5C-4547-A40D-D9FBDF51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C82-7437-4EBA-9137-F9746465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0E9-1137-4E1D-9CD4-2A19E52C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96F-E627-4FDD-928B-971D9CE8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DB61-BA4E-4015-BAFC-AD57E00F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C8C-C945-496D-A081-8CDE6CC0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05E-DF65-4A37-8CEE-435FD411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97F-B009-4D72-8E22-9C6BFF2D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691-CD58-4041-9A50-2A200443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DD0-63DE-4FF2-95AF-6B0C8560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7EF59-1725-47A1-8B75-DF366F8851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