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92382"/>
        <c:axId val="20762142"/>
      </c:barChart>
      <c:catAx>
        <c:axId val="42792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62142"/>
        <c:crosses val="autoZero"/>
        <c:auto val="1"/>
        <c:lblAlgn val="ctr"/>
        <c:lblOffset val="100"/>
        <c:noMultiLvlLbl val="0"/>
      </c:catAx>
      <c:valAx>
        <c:axId val="20762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92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9733-8063-485B-A344-1FBCD1AB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65B-1087-4B23-BA1A-52AE832D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EF8-DE1E-418D-ACEB-0C34DCB4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DE2-2C51-44EA-9241-871B6651A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85B-CEE6-4162-9B40-285584A1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5BD-6C21-4763-9157-0B4CBB18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AA0-D8A9-4EB5-96B3-81D8A6D1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5BF0-7A79-4890-904E-40BC758B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EDE-9C4D-499B-BB4D-029E33DC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96C-5C12-40D5-920E-07F11E2A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4AD-A803-4347-9FBB-FDE66323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F7B-FBCA-40A1-8972-2A2DA36D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5925E-4E74-4A95-A605-1F724E6652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