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223643"/>
        <c:axId val="55596502"/>
      </c:barChart>
      <c:catAx>
        <c:axId val="922236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96502"/>
        <c:crosses val="autoZero"/>
        <c:auto val="1"/>
        <c:lblAlgn val="ctr"/>
        <c:lblOffset val="100"/>
        <c:noMultiLvlLbl val="0"/>
      </c:catAx>
      <c:valAx>
        <c:axId val="555965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236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1579-68BD-48E3-9450-FE89D7CA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E979-7CB5-4936-AF63-A6AFFEDF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94BD-DC35-4E27-A189-94292264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649C-6ED1-4D3A-B70C-18B4D3EF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6EF8-43B1-4C26-842C-3017D086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05E6-8C2D-4DF7-89D6-5E8DEA2C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19D7-AFCC-4926-8D86-61FF2CE0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BAF9-5133-4CC2-8EB6-BF23FE1E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0FF7-586E-44C0-BA6D-A3A3CF62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06ED-ADB3-4B2F-BEBC-C85C5B83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F832-C789-4874-8138-138FA05F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29CE-9E48-4D45-A8A4-89E08852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57A6E-ACDC-4879-B360-E7ED108387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