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40056"/>
        <c:axId val="88764280"/>
      </c:barChart>
      <c:catAx>
        <c:axId val="60440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64280"/>
        <c:crosses val="autoZero"/>
        <c:auto val="1"/>
        <c:lblAlgn val="ctr"/>
        <c:lblOffset val="100"/>
        <c:noMultiLvlLbl val="0"/>
      </c:catAx>
      <c:valAx>
        <c:axId val="8876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0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DFD-3446-4AF4-B1C1-B8815E7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C8C-E29D-4F42-AED4-B5CA23ED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7EC-6C43-43AC-B07A-B09CC90F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A5A-17C8-4E21-AE39-6389BE2D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BC8-1772-435C-862C-057C569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295-8B54-4E0D-8933-B9B773C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9C3-5817-4D47-87EA-1109F20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FEF-BC1E-431D-A872-AA9ACE9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116-C9A7-41B7-8184-3139F6A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63C-B7C7-46E1-80FF-5688144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158-7461-4537-BF56-725727E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CAC-DC50-4BD9-B660-EE6838E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CFEF8-5AA9-4C80-8231-C1351E019D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