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42802"/>
        <c:axId val="96700635"/>
      </c:barChart>
      <c:catAx>
        <c:axId val="57942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00635"/>
        <c:crosses val="autoZero"/>
        <c:auto val="1"/>
        <c:lblAlgn val="ctr"/>
        <c:lblOffset val="100"/>
        <c:noMultiLvlLbl val="0"/>
      </c:catAx>
      <c:valAx>
        <c:axId val="96700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42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5AA-7E7A-4F48-AA51-C85C943F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1B5-B665-4E85-880E-D4D7CD4F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E0B-E95A-4F32-ABB7-C49F7A07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A8A-98D3-44A9-B69D-F88F328E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419-F869-415A-AC40-E47D1522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A0C-A1AE-47D1-8862-BEAC14E8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DB1-014B-4892-A1F8-0AC0621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CB8-800F-447D-B70B-DD4AE14C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6A9-EC44-4B30-B700-ED1B8439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1BF-0F32-4E71-A196-447A8309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5B2-B7E4-4F0E-8916-098E3EF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D33-6505-4029-9B26-D1E442F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B80A9-DEF6-4EF6-A3F4-73F8421B54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